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1AB-DD76-42A3-95F4-47243BA7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10B-72B9-47CA-8426-9F903781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D83-7199-42ED-BF17-2D9A7DFD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F62-D3BA-498B-890A-88310D0C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9EF-8046-468B-81DE-03292C2E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4A1-5530-46A5-B978-28FC967A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F77-4218-46DE-852A-13E4AFAD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9D7-66DF-47BD-A2CB-F6EBC481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3E1-F60F-4D1B-9290-D6A6E607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A93-0D45-4D8C-9280-503CD91B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3A70-90E8-44E9-B121-739C7855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AE4-0ED6-4F6E-BA12-A82BE1EB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2998-F76A-4DDE-BC12-E13B5A256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Ontology 2.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on of multiple is_a inheritance through instantiation of relationships to terms in outside ontologies, such as the GO cellular component, GO biological process, and the PATO phenotype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should be more ontologically correct, and more useful for data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is likely to be slow, due to lack of personnel and funding to organize th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is Workshop</a:t>
            </a:r>
            <a:br>
              <a:rPr sz="44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per A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gmatic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ontology in its current form to include additional immune cell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al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 the groundwork for CL 2.0 in the area of immune cell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for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tation (ongoing for 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roduct term formation with GO, MP, and other ontologies (ongo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of Flow Cytometry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 Mod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DB annotation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21337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Protei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2670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GO 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8954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5288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523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k to extern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1337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expresses_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located_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438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participates_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28954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95288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523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k via specific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o 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ion between ontology, knowledgebase, and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nformation is needed to describe a cell uniquely — to create a formal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al with species differ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5:42:36Z</dcterms:created>
  <dc:creator>Alexander Diehl</dc:creator>
  <dc:description/>
  <dc:language>en-US</dc:language>
  <cp:lastModifiedBy>Alexander Diehl</cp:lastModifiedBy>
  <dcterms:modified xsi:type="dcterms:W3CDTF">2008-05-13T01:12:48Z</dcterms:modified>
  <cp:revision>6</cp:revision>
  <dc:subject/>
  <dc:title>Cell Ontology 2.0 </dc:title>
</cp:coreProperties>
</file>